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538E-EDE2-4248-B610-86881203F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787F-2EF4-480F-8AD4-C02E7D8DD5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F279-82E4-4DE9-A66B-5567E6F994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D475-27F8-4905-BA4A-67ADF60D28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BAB8-68F2-44E5-ACE6-A5FC5FBA96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B867-4786-485F-A45D-9F7CA71ACB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3613-8A79-4CB8-9D44-E5FA088C1E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183D-B484-48FE-99AD-BFA0199B35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8169-85E1-4109-9AAB-9BA321407D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01D4-BD81-4F4F-A862-9262147BFE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22DC-E81D-46E8-824C-6D48DE71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A450-EAE1-4AF3-8BF0-9359AC1F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303-13A9-4C62-AE1E-532ACC49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883-F4E8-4C5D-85A0-1297488B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93E2-8AB8-4647-83C3-74CF827C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7CD5-9908-4D0E-ADE8-8979D916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D4AE-70CD-4548-BCBC-066CEBCE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EAE5-3D57-4AC2-AAB4-43DE542B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C8D4-A878-42DA-A9E1-5C9A6871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6395-66D1-433E-A240-63B3D3F4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A470-3D3C-46F3-A4E0-CDDC4F72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30AF-2C27-4BCB-9FB2-7A3ADF72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068A-6E16-4D0E-A341-CAF51F36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FF84-5958-4C2C-806A-56C837A9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47CE-7C30-42B9-9938-DE1C1D46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E223-9D67-47F3-94D3-7C73D0B2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62B1-D023-46E8-BB5F-A88FD57C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7FB5B-6A41-4A30-A00B-A4AAAC2D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0DE14-92F4-4536-B127-F45CE777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64C39-F154-4CF0-B7B8-1DF26532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30B85-0051-470D-9039-877A3353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76220-E533-41D9-B48C-D921BEA7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6A7-1FC2-4F0A-B942-1E89FAD4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FE124-AF0C-439D-A818-40E1C9F4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DC021-5BBC-411C-8F4C-00D6DA0B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F38D8-FE68-4D1E-8F79-AE763853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870BD-295B-4E91-A66D-9742E342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B8DFF-B321-4C2E-97F6-149FCF06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D2341-AD79-4CF3-BCF1-2659F770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6FF80-DB78-40B8-8311-D58F8AB7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6AE82-FABA-4CB9-967F-AB9E40A0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5C9FF-009C-47BD-817E-9BF09F0C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979B0-044F-44E8-8421-F0A78DF8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C0D-DF78-485D-86F4-91AB3463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A22CB-EC5C-43A9-A55D-240EA5D8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330E5-2D75-4904-983A-EC65A57A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56FD3-493F-4A1D-A7F0-B25A99EB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F9742-3476-4178-A6AE-6466FD9B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1D985-32EF-4EB1-83BB-F4731A11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499E9-8E0A-44CB-8078-20EC631D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2AE84-56BF-4EB1-BEA2-D2B6A780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0DA35-2D67-44CC-9426-780DD6AB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D961F-1D7A-4A09-8E87-742C1EAB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AB77F6-4343-4FF7-AD9A-B3FF9F37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92B-F3F1-4484-948D-FBFC83AF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D81734-B3CF-4D90-861C-D6512F24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35FC1B-7E94-45E3-B904-28234A2D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CCE99-862F-42DD-80A4-53E643F4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46538E-08BE-4247-9DE7-81D8CC2D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5A1A80-28B0-49BD-873C-87B2B07F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52D206-3B87-4614-A2DF-C9167680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4A3990-31C8-4A55-9C38-CA60569E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84908-A1C7-4211-942E-BC16B006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98D2A-CBB5-43EE-81B3-ADEC8328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8CCA4-9C98-40F1-B1C8-70539E5A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C33-FD52-45CF-B739-6602E9AE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AC2027-00F4-4AB6-98DB-4A69EEF3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BEDA22-159A-4C3D-8794-F64C093B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56B4D-4A4C-4954-99B6-93F8449C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C618E9-49F7-406A-B630-81D728A3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3B70CD-C977-4DE2-A71A-E9C157FF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7EA36D-DBD9-4651-BDFE-543B9617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CBD9F-EB20-4E1C-AC5D-C254BBBE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15B30E-DF77-40CF-AA1D-BC337148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C0C889-6506-435D-A16C-FEB1C113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4066A-849A-4DAE-BFE4-32BD574F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1E7-AF05-4F02-B73F-21BC9534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951C7A-9583-4AE6-8DBE-4CC43269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2B003C-4A77-4532-B0C7-951339D5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D3B7BA-7FF6-4145-A488-2C829833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95818D-75E4-4F42-AC3E-3B1B7049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018571-500B-4537-8C2C-3FBE429B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1F72C5-977C-4302-8D58-6E9DC6BC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73E7B-E2EB-4CC8-BBC1-EB593029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9AC66A-B849-47E6-8D50-6A0A79E5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F67C9B-D98B-4F97-8D13-5F9DDAF2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4998B9-62B6-49DD-9E93-6F5A4281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AD3-DE49-44E7-9F51-63B38647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E4D878-95C7-4B88-B391-FEDEBDCE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229DFE-9D74-4935-A04B-453F6B0C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38E4F5-7223-4628-8E61-0768394C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493A40-4D7A-4ABC-822A-65B0ACD2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1F8BD5-5532-4697-8029-990C0BB7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C29-3615-4C9F-B0FA-1C7539CC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78AF-B6B6-41EF-A938-F994C408292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bebe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2f2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9f9f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bebe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9f9f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bebe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bebe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F581-827A-482D-878F-701B1CC2F38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2A3E-49D4-405C-A0DE-21100090735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bebe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2f2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9f9f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bebe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9f9f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bebe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bebe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D8BA-A905-42B9-9BC5-B2EFF1DE6C9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C7EA-1C81-4638-9DD2-CC8CACC9E93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9279-C4B7-4D35-8F75-2BC51F38838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558F-DDF9-4792-AF93-E27E9867947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8f8f8"/>
                </a:solidFill>
                <a:latin typeface="Century Schoolbook"/>
              </a:rPr>
              <a:t>    </a:t>
            </a:r>
            <a:r>
              <a:rPr b="1" lang="en-US" sz="9600" spc="-1" strike="noStrike">
                <a:solidFill>
                  <a:srgbClr val="f8f8f8"/>
                </a:solidFill>
                <a:latin typeface="Century Schoolbook"/>
              </a:rPr>
              <a:t>P/W</a:t>
            </a:r>
            <a:endParaRPr b="0" lang="en-US" sz="96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entury Schoolbook"/>
              </a:rPr>
              <a:t>The Interplay of Pictures and Words: Seven Combinations in Scott McCloud’s </a:t>
            </a:r>
            <a:r>
              <a:rPr b="1" i="1" lang="en-US" sz="2800" spc="-1" strike="noStrike">
                <a:solidFill>
                  <a:srgbClr val="f8f8f8"/>
                </a:solidFill>
                <a:latin typeface="Century Schoolbook"/>
              </a:rPr>
              <a:t>Understanding Comic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Pictures &amp; Words - Understanding Comics - 1.jpg"/>
          <p:cNvPicPr/>
          <p:nvPr/>
        </p:nvPicPr>
        <p:blipFill>
          <a:blip r:embed="rId1"/>
          <a:stretch/>
        </p:blipFill>
        <p:spPr>
          <a:xfrm>
            <a:off x="571680" y="1417680"/>
            <a:ext cx="8001000" cy="4022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Pictures &amp; Words - Understanding Comics 2.jpg"/>
          <p:cNvPicPr/>
          <p:nvPr/>
        </p:nvPicPr>
        <p:blipFill>
          <a:blip r:embed="rId1"/>
          <a:stretch/>
        </p:blipFill>
        <p:spPr>
          <a:xfrm>
            <a:off x="571680" y="1474920"/>
            <a:ext cx="8001000" cy="3908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Pictures &amp; Words - Understanding Comics 3.jpg"/>
          <p:cNvPicPr/>
          <p:nvPr/>
        </p:nvPicPr>
        <p:blipFill>
          <a:blip r:embed="rId1"/>
          <a:stretch/>
        </p:blipFill>
        <p:spPr>
          <a:xfrm>
            <a:off x="647640" y="1214280"/>
            <a:ext cx="7848720" cy="4429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1" descr="Pictures &amp; Words Understanding Comics 4.jpg"/>
          <p:cNvPicPr/>
          <p:nvPr/>
        </p:nvPicPr>
        <p:blipFill>
          <a:blip r:embed="rId1"/>
          <a:stretch/>
        </p:blipFill>
        <p:spPr>
          <a:xfrm>
            <a:off x="571680" y="1154160"/>
            <a:ext cx="8001000" cy="4549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" descr="Pictures &amp; Words Understanding Comics 5.jpg"/>
          <p:cNvPicPr/>
          <p:nvPr/>
        </p:nvPicPr>
        <p:blipFill>
          <a:blip r:embed="rId1"/>
          <a:stretch/>
        </p:blipFill>
        <p:spPr>
          <a:xfrm>
            <a:off x="666720" y="1488960"/>
            <a:ext cx="7810560" cy="38800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Pictures &amp; Words Understanding Comics 6.jpg"/>
          <p:cNvPicPr/>
          <p:nvPr/>
        </p:nvPicPr>
        <p:blipFill>
          <a:blip r:embed="rId1"/>
          <a:stretch/>
        </p:blipFill>
        <p:spPr>
          <a:xfrm>
            <a:off x="685800" y="1433520"/>
            <a:ext cx="7772400" cy="3990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1" descr="Pictures &amp; Words - Understanding Comics 7.jpg"/>
          <p:cNvPicPr/>
          <p:nvPr/>
        </p:nvPicPr>
        <p:blipFill>
          <a:blip r:embed="rId1"/>
          <a:stretch/>
        </p:blipFill>
        <p:spPr>
          <a:xfrm>
            <a:off x="1852560" y="533520"/>
            <a:ext cx="5438880" cy="5790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1" descr="Pictures &amp; Words - Understanding Comics 8.jpg"/>
          <p:cNvPicPr/>
          <p:nvPr/>
        </p:nvPicPr>
        <p:blipFill>
          <a:blip r:embed="rId1"/>
          <a:stretch/>
        </p:blipFill>
        <p:spPr>
          <a:xfrm>
            <a:off x="914400" y="1569960"/>
            <a:ext cx="7315200" cy="37180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6:31:19Z</dcterms:created>
  <dc:creator>Seachelle</dc:creator>
  <dc:description/>
  <dc:language>en-US</dc:language>
  <cp:lastModifiedBy>Seachelle</cp:lastModifiedBy>
  <dcterms:modified xsi:type="dcterms:W3CDTF">2011-08-28T18:25:15Z</dcterms:modified>
  <cp:revision>4</cp:revision>
  <dc:subject/>
  <dc:title>P/W</dc:title>
</cp:coreProperties>
</file>